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1809-EA52-472B-989E-D448D399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7DB6-0D4E-46EB-BFBD-9519EE2B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D8F3-A596-4E6D-AB2A-8D92CEB9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B832-D16D-49AD-A36C-7A76EBA3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57EC-C638-4299-95A0-56349118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B0CD-CA88-4747-9B38-CEACA1BD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EE92-B05B-4843-946D-1F6BE683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736B-30FE-425A-99C7-91B6A47C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B035-770B-4710-AD1F-F784C6AF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C733-A560-4346-9A57-43A7C289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C8D9-F486-4E44-8D8B-FF3B7384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71A7-B522-489C-AF16-E77A8AD0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A9A2-1727-4F93-88D4-5423E3FCDC5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733480" y="3929040"/>
            <a:ext cx="37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yhledávač na internetu se jmen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387440" y="5392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oca 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419080" y="48164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Su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438160" y="54450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luk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5421960" y="48164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Řec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500200" y="392904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o byl fotbalovým mistrem Evropy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3500280" y="39290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je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050 :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313640" y="4816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419080" y="4816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3816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33452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5419080" y="4816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500280" y="39290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je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050 :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714840" y="39290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o nosí štěst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423040" y="4816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rcad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440680" y="5445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ře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335600" y="5445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ů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410840" y="47973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iama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5440680" y="5445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ře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714840" y="39290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o nosí štěst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3286080" y="392904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litrů obsahuje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m</a:t>
            </a:r>
            <a:r>
              <a:rPr b="0" lang="de-CH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419080" y="4816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437800" y="54450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406160" y="5445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405800" y="4797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5419080" y="4816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286080" y="392904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litrů obsahuje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m</a:t>
            </a:r>
            <a:r>
              <a:rPr b="0" lang="de-CH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428920" y="3929040"/>
            <a:ext cx="47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prstů mají Simpsonovi na jedné ru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437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405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405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428920" y="3929040"/>
            <a:ext cx="47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prstů mají Simpsonovi na jedné ru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2357280" y="392904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aká země nesousedí se Švýcarsk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424120" y="481644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ěmec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442120" y="5445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411920" y="54450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Španěl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407960" y="4797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tá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8420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733480" y="3929040"/>
            <a:ext cx="37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yhledávač na internetu se jmen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448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1411920" y="54450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Španěl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357280" y="392904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aká země nesousedí se Švýcarsk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714760" y="39290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 jaké zemi patří ostrov Korsik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420880" y="48164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tá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5445000" y="54450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rtugal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411920" y="54450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Španěl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409760" y="47973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8"/>
          <p:cNvSpPr/>
          <p:nvPr/>
        </p:nvSpPr>
        <p:spPr>
          <a:xfrm>
            <a:off x="140328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1409760" y="47973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714760" y="39290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 jaké zemi patří ostrov Korsik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3071880" y="3929040"/>
            <a:ext cx="33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jaké zemi se neplatí eur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423040" y="4816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441760" y="54450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ng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408680" y="54450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i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410840" y="47973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ěmec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5441760" y="54450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ng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071880" y="3929040"/>
            <a:ext cx="33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jaké zemi se neplatí eur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857240" y="392904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y se prvně konalo mistrovství světa v řezání led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22252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222520" y="544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1261800" y="544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8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126180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8"/>
          <p:cNvSpPr/>
          <p:nvPr/>
        </p:nvSpPr>
        <p:spPr>
          <a:xfrm>
            <a:off x="1258920" y="544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126180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857240" y="392904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y se prvně konalo mistrovství světa v řezání led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3429000" y="3929040"/>
            <a:ext cx="30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hran má krych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221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522180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12607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429000" y="3929040"/>
            <a:ext cx="30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hran má krych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28960" y="39290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ak široká je fotbalová brán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5225760" y="5445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,08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264680" y="5445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,53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26468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,5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588760" y="392904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ak se jmenuje hlavní město Tureck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313640" y="48164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stanb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419080" y="4816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tal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37800" y="5445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Bu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928960" y="39290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ak široká je fotbalová brán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588760" y="392904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ak se jmenuje hlavní město Tureck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2714760" y="3929040"/>
            <a:ext cx="43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je knih o Harrym Potterov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31400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33380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714760" y="3929040"/>
            <a:ext cx="43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lik je knih o Harrym Potterov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785960" y="39290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terá zpěvačka zpívá písničku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313640" y="48164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Emi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2052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438520" y="544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lanis Moriss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335240" y="544500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shlee Si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542052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85960" y="39290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terá zpěvačka zpívá písničku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2500200" y="392904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o byl fotbalovým mistrem Evropy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18680" y="481644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ěmec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421960" y="48164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Řec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442120" y="5445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338120" y="54450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ng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8:54:53Z</dcterms:created>
  <dc:creator>kahraman</dc:creator>
  <dc:description/>
  <dc:language>en-US</dc:language>
  <cp:lastModifiedBy>Grada</cp:lastModifiedBy>
  <dcterms:modified xsi:type="dcterms:W3CDTF">2016-01-25T12:30:21Z</dcterms:modified>
  <cp:revision>69</cp:revision>
  <dc:subject/>
  <dc:title>Folie 1</dc:title>
</cp:coreProperties>
</file>